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1ED-A4E7-47D6-8EE1-408D0270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4BC-4C1D-4DED-8606-F05B68D3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F47-7782-428F-AF34-78315B05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3A1-DCAF-4FAA-8348-83D94610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4EC4-2C52-42BE-B49A-060838BF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0EE6-4166-48E9-AF24-BC81BBCE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EB9F-B3D0-4F7F-8DE5-D0C940E1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3B9F-2887-4C06-9EA1-A3E0D6CA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4A33-4ACA-44E4-B7D1-267D580F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1D18-2FFC-40B9-B357-60693013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F478-84A9-4EA6-AF31-9F60B37E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66C-C52B-4082-A52B-FDD73C75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8C30-E0E0-455E-9FEC-F9A70ACF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B0BE-C33A-4660-A975-A43001C2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8E6B-4983-4D77-A78B-45E4BC02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3A1F-726F-41D4-9AD8-27F0D3A6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7CF7-025A-4E87-A3B1-FF91FF61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0A3-22E3-4173-BB0A-604A1AD3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4CE-E526-4859-BB28-DD369E46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068-7996-466E-996B-40987C41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4EF-1F8D-4D6B-B865-AE0AED5B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595-0F09-4E0C-A325-EBD6AB04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841-9A25-47B5-9C61-E8E01DED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173-35AF-404B-A60A-D00410AE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9578-399A-400C-8FE0-FA5FE0F1F9F9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39F3-E17E-4289-8DD7-74BAC0D91455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anawa.k12.wi.us/LWHS/Staff/Staff/Kelly%20Koller/General%20Tutorials/How%20to%20read%20a%20ruler.htm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oodzone.com/articles/ruler_image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Fractions and Ruler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ractions on a Number Lin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eading a Ruler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plit into Two Group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Jigsaw Group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omputer Group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ork on your assignments for 15 minutes and then we will switch groups for the next 15 minutes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ow to Read a Ruler Jigsaw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ach group will have copies of a 4 different articles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ach person chooses one of the 4 articles to read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hare what you read with the group and do the example problems with the rulers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omplete Practical Problems Worksheet, correct, and review errors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How to Read a Ruler Internet Tutorial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lassroom or Computer Laboratory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Log-in and go to the website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mplete Tutorial and 8-Question Practice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mplete Practice Sheets, check answers with your group members and make corrections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99"/>
                </a:solidFill>
                <a:uFillTx/>
                <a:latin typeface="Times New Roman"/>
                <a:hlinkClick r:id="rId1"/>
              </a:rPr>
              <a:t>http://www.manawa.k12.wi.us/LWHS/Staff/Staff/Kelly%20Koller/General%20Tutorials/How%20to%20read%20a%20ruler.htm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uler Gam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nish the Tutorial/practice and handout Practice Sheets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on the Ruler Game at the bottom of the screen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lay the game until directed to stop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Closure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Exit Ticket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On the index card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ame or describe one activity that we did today that helped you to understand the mathematics and explain why you think it helped you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ame or describe one activity that you did not find helpful and would rather not do again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ational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onstruction trades use rules and rulers for measurement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tandard Rulers are divided into quarters, eighths, and sixteenths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recision measurement is the standard for quality work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lace Fractions on a Number Lin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ead a Ruler with halves, fourths, eighths, and sixteenths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Make a Number Lin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eading a Ruler and Practic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uler Internet Activities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Creating a Fractional Number Lin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Demonstration – using card strips and marker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Group Practi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ndividual Practi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ractions on a Number L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Draw a number line and place these fractions between 0 and 1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½ and 2/2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¼ and ¾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1/8, 3/8, 5/8, and 7/8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1/16,  3/16, 5/16, 7/16, 9/16, 11/16, 13/16, and 15/16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Make it </a:t>
            </a:r>
            <a:r>
              <a:rPr b="0" i="1" lang="en-US" sz="3200" spc="-1" strike="noStrike" u="sng">
                <a:solidFill>
                  <a:srgbClr val="663300"/>
                </a:solidFill>
                <a:uFillTx/>
                <a:latin typeface="Times New Roman"/>
              </a:rPr>
              <a:t>large</a:t>
            </a:r>
            <a:r>
              <a:rPr b="0" i="1" lang="en-US" sz="3200" spc="-1" strike="noStrike">
                <a:solidFill>
                  <a:srgbClr val="663300"/>
                </a:solidFill>
                <a:latin typeface="Times New Roman"/>
              </a:rPr>
              <a:t> enough for you to work with and you may use color markers.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Number Line Discussion Questions 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Do any of the fractions fall on the same place on the number line? Explain your answer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Where would fractions like: 2/4, 2/8, 6/8, 4/16, or 6/16 fall on the number line? How do we explain this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What happens to fractions that fall beyond 1 on the number line? Beyond 2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How many fractions are there on the number line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an all the fractions fit on the number line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590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ch and Frac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117960" y="762120"/>
            <a:ext cx="4457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Tape Measure Exampl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609480"/>
            <a:ext cx="2132280" cy="5715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523880" y="1752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6:03:26Z</dcterms:created>
  <dc:creator>MCTI</dc:creator>
  <dc:description/>
  <cp:keywords/>
  <dc:language>en-US</dc:language>
  <cp:lastModifiedBy>MCTI</cp:lastModifiedBy>
  <dcterms:modified xsi:type="dcterms:W3CDTF">2010-01-15T13:21:31Z</dcterms:modified>
  <cp:revision>17</cp:revision>
  <dc:subject/>
  <dc:title>Fractions and Rul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33</vt:lpwstr>
  </property>
</Properties>
</file>